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7120" cy="12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8E9D0-4B56-45DC-A0C6-388E9143D4A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8CB0A-8BD7-46B1-A198-605A33B8A0A6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FA810-269D-4485-B1AD-48AC6886B503}" type="slidenum">
              <a:rPr b="0" lang="de-DE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Zen 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8BC8A-AADF-4547-8CF9-A2FE8CB80C3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1E1E3-D72F-4473-A690-B84B97A990F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B6374-B169-47DA-824B-BDABA6D0A70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B935D-B74F-4BD3-B52E-CDD91BE726E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6D04D-3FF8-4220-9162-37F7A79BC97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4B365-8D62-4253-B909-8732409A9EF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8CCB8-104C-45D7-9403-FEE554833D41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9712B-0749-406A-AD5B-800966D3EE0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1520" y="8686800"/>
            <a:ext cx="29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96F7B-8092-43C5-81C6-677676C7536A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03320" y="695160"/>
            <a:ext cx="48276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82375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7280" y="3657960"/>
            <a:ext cx="82375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7280" y="365796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08280" y="365796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72240" y="159984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7560" y="159984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7280" y="365796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72240" y="365796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7560" y="365796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87280" y="1599840"/>
            <a:ext cx="823752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ts val="1899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82375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7280" y="31860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ts val="1899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87280" y="365796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7280" y="1599840"/>
            <a:ext cx="823752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ts val="1899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08280" y="365796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7280" y="3657960"/>
            <a:ext cx="82375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82375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87280" y="3657960"/>
            <a:ext cx="82375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87280" y="365796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08280" y="365796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72240" y="159984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57560" y="159984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87280" y="365796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72240" y="365796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57560" y="3657960"/>
            <a:ext cx="26521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82375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7280" y="31860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ts val="1899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7280" y="365796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08280" y="365796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08280" y="1599840"/>
            <a:ext cx="401976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7280" y="3657960"/>
            <a:ext cx="8237520" cy="18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7280" y="318600"/>
            <a:ext cx="8237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7280" y="1599840"/>
            <a:ext cx="82375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5778360" y="6732720"/>
            <a:ext cx="3365640" cy="125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32720"/>
            <a:ext cx="5784840" cy="1252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116760"/>
            <a:ext cx="86868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58920" y="6248520"/>
            <a:ext cx="2867040" cy="376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799400" y="6237360"/>
            <a:ext cx="96372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0120" y="2819520"/>
            <a:ext cx="8813880" cy="2279520"/>
          </a:xfrm>
          <a:prstGeom prst="rect">
            <a:avLst/>
          </a:prstGeom>
          <a:solidFill>
            <a:srgbClr val="9c9c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6920" y="3997080"/>
            <a:ext cx="64659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5040"/>
            <a:ext cx="609588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91800" y="4389480"/>
            <a:ext cx="18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78360" y="6732720"/>
            <a:ext cx="336564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605640"/>
            <a:ext cx="57848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8920" y="762120"/>
            <a:ext cx="3776400" cy="496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186680" y="6008760"/>
            <a:ext cx="1576440" cy="639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1899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ts val="1899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6720" y="3708360"/>
            <a:ext cx="885528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 Data And Future Analysi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9080" y="5148000"/>
            <a:ext cx="66132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omas Wieland, Thomas Schwarzmayr and Tim M Str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lmholtz Zentrum Münche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e of Human Geneti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1719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840" y="6342120"/>
            <a:ext cx="35989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Geneva, 16/04/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343400" y="1295280"/>
            <a:ext cx="38098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57320">
              <a:tabLst>
                <a:tab algn="l" pos="0"/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57320">
              <a:buClr>
                <a:srgbClr val="000000"/>
              </a:buClr>
              <a:buFont typeface="Arial"/>
              <a:buChar char="•"/>
              <a:tabLst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60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-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60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zygous-Heterozyg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57320">
              <a:lnSpc>
                <a:spcPct val="100000"/>
              </a:lnSpc>
              <a:tabLst>
                <a:tab algn="l" pos="0"/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57320">
              <a:lnSpc>
                <a:spcPct val="100000"/>
              </a:lnSpc>
              <a:tabLst>
                <a:tab algn="l" pos="0"/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5240" indent="-157320">
              <a:lnSpc>
                <a:spcPct val="100000"/>
              </a:lnSpc>
              <a:tabLst>
                <a:tab algn="l" pos="0"/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57320">
              <a:lnSpc>
                <a:spcPct val="100000"/>
              </a:lnSpc>
              <a:tabLst>
                <a:tab algn="l" pos="0"/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57320">
              <a:lnSpc>
                <a:spcPct val="100000"/>
              </a:lnSpc>
              <a:tabLst>
                <a:tab algn="l" pos="0"/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57320">
              <a:lnSpc>
                <a:spcPct val="100000"/>
              </a:lnSpc>
              <a:tabLst>
                <a:tab algn="l" pos="0"/>
                <a:tab algn="l" pos="16524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1001880"/>
            <a:ext cx="304920" cy="148104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1481040"/>
              <a:gd name="textAreaBottom" fmla="*/ 1425600 h 14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7"/>
                  <a:pt x="10800" y="2593"/>
                </a:cubicBezTo>
                <a:lnTo>
                  <a:pt x="10800" y="8336"/>
                </a:lnTo>
                <a:cubicBezTo>
                  <a:pt x="10800" y="9633"/>
                  <a:pt x="16200" y="10929"/>
                  <a:pt x="21600" y="10929"/>
                </a:cubicBezTo>
                <a:cubicBezTo>
                  <a:pt x="16200" y="10929"/>
                  <a:pt x="10800" y="12226"/>
                  <a:pt x="10800" y="13522"/>
                </a:cubicBezTo>
                <a:lnTo>
                  <a:pt x="10800" y="19007"/>
                </a:lnTo>
                <a:cubicBezTo>
                  <a:pt x="10800" y="2030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2536920"/>
            <a:ext cx="228600" cy="75564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755640"/>
              <a:gd name="textAreaBottom" fmla="*/ 74376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7"/>
                  <a:pt x="10800" y="1093"/>
                </a:cubicBezTo>
                <a:lnTo>
                  <a:pt x="10800" y="9836"/>
                </a:lnTo>
                <a:cubicBezTo>
                  <a:pt x="10800" y="10383"/>
                  <a:pt x="16200" y="10929"/>
                  <a:pt x="21600" y="10929"/>
                </a:cubicBezTo>
                <a:cubicBezTo>
                  <a:pt x="16200" y="10929"/>
                  <a:pt x="10800" y="11476"/>
                  <a:pt x="10800" y="12022"/>
                </a:cubicBezTo>
                <a:lnTo>
                  <a:pt x="10800" y="20507"/>
                </a:lnTo>
                <a:cubicBezTo>
                  <a:pt x="10800" y="2105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27320" y="3382920"/>
            <a:ext cx="228600" cy="206280"/>
          </a:xfrm>
          <a:custGeom>
            <a:avLst/>
            <a:gdLst>
              <a:gd name="textAreaLeft" fmla="*/ 0 w 228600"/>
              <a:gd name="textAreaRight" fmla="*/ 82440 w 228600"/>
              <a:gd name="textAreaTop" fmla="*/ 5040 h 206280"/>
              <a:gd name="textAreaBottom" fmla="*/ 201240 h 20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9"/>
                </a:lnTo>
                <a:cubicBezTo>
                  <a:pt x="10800" y="10029"/>
                  <a:pt x="16200" y="10929"/>
                  <a:pt x="21600" y="10929"/>
                </a:cubicBezTo>
                <a:cubicBezTo>
                  <a:pt x="16200" y="10929"/>
                  <a:pt x="10800" y="11829"/>
                  <a:pt x="10800" y="1272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3632040"/>
            <a:ext cx="228600" cy="1487520"/>
          </a:xfrm>
          <a:custGeom>
            <a:avLst/>
            <a:gdLst>
              <a:gd name="textAreaLeft" fmla="*/ 0 w 228600"/>
              <a:gd name="textAreaRight" fmla="*/ 82440 w 228600"/>
              <a:gd name="textAreaTop" fmla="*/ 40320 h 1487520"/>
              <a:gd name="textAreaBottom" fmla="*/ 1447200 h 148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37"/>
                  <a:pt x="10800" y="1874"/>
                </a:cubicBezTo>
                <a:lnTo>
                  <a:pt x="10800" y="9055"/>
                </a:lnTo>
                <a:cubicBezTo>
                  <a:pt x="10800" y="9992"/>
                  <a:pt x="16200" y="10929"/>
                  <a:pt x="21600" y="10929"/>
                </a:cubicBezTo>
                <a:cubicBezTo>
                  <a:pt x="16200" y="10929"/>
                  <a:pt x="10800" y="11866"/>
                  <a:pt x="10800" y="12803"/>
                </a:cubicBezTo>
                <a:lnTo>
                  <a:pt x="10800" y="19726"/>
                </a:lnTo>
                <a:cubicBezTo>
                  <a:pt x="10800" y="2066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9880" y="419904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of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40240" y="3301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7320" indent="-157320">
              <a:buClr>
                <a:srgbClr val="000000"/>
              </a:buClr>
              <a:buFont typeface="Arial"/>
              <a:buChar char="•"/>
              <a:tabLst>
                <a:tab algn="l" pos="15732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V call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14680" y="25956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7320" indent="-157320">
              <a:buClr>
                <a:srgbClr val="000000"/>
              </a:buClr>
              <a:buFont typeface="Arial"/>
              <a:buChar char="•"/>
              <a:tabLst>
                <a:tab algn="l" pos="15732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SNP / Hap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60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732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heterozygoz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100000"/>
              </a:lnSpc>
              <a:tabLst>
                <a:tab algn="l" pos="0"/>
                <a:tab algn="l" pos="15732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3089160" cy="56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7960" y="2602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ome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320" y="52560"/>
            <a:ext cx="6972120" cy="4976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971800" y="2741760"/>
            <a:ext cx="6124680" cy="4095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488920" y="0"/>
            <a:ext cx="27795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bS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G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00 gen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buClr>
                <a:srgbClr val="000000"/>
              </a:buClr>
              <a:buFont typeface="Arial"/>
              <a:buChar char="•"/>
              <a:tabLst>
                <a:tab algn="l" pos="162000"/>
                <a:tab algn="l" pos="619200"/>
                <a:tab algn="l" pos="1076400"/>
                <a:tab algn="l" pos="1533600"/>
                <a:tab algn="l" pos="1990800"/>
                <a:tab algn="l" pos="2448000"/>
                <a:tab algn="l" pos="2905200"/>
                <a:tab algn="l" pos="3362400"/>
                <a:tab algn="l" pos="3819600"/>
                <a:tab algn="l" pos="4276800"/>
                <a:tab algn="l" pos="4734000"/>
                <a:tab algn="l" pos="5191200"/>
                <a:tab algn="l" pos="5648400"/>
                <a:tab algn="l" pos="6105600"/>
                <a:tab algn="l" pos="6562800"/>
                <a:tab algn="l" pos="7020000"/>
                <a:tab algn="l" pos="7477200"/>
                <a:tab algn="l" pos="7934400"/>
                <a:tab algn="l" pos="8391600"/>
                <a:tab algn="l" pos="884880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lyPhen Prediction,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87280" y="184320"/>
            <a:ext cx="8150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t Calling on mRNA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7280" y="1600200"/>
            <a:ext cx="839952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240" indent="-633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RNA calling vs. WG gen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RNA calling vs. I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NA edi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nt discussions about amount: “widespread”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(M. Li et al., Science 333, 53, 201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vs. “very few”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(Schrider et al., Plos One, 2011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we find known sites from literature? (e.g.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﻿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Li, J. B. et al. (2009). Genome-wide identification of human RNA editing sites by parallel DNA capturing and sequencing. Science, 324(5931), 1210-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7280" y="363600"/>
            <a:ext cx="8150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7280" y="1600200"/>
            <a:ext cx="839952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240" indent="-633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nt Calling on mRNA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7280" y="363600"/>
            <a:ext cx="8150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7280" y="1600200"/>
            <a:ext cx="839952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240" indent="-633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48 samples have on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5M 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8% mapped (BWA; reads trimmed to 50b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4% of aligned reads intersect lincRNA (from UC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77724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-68400"/>
            <a:ext cx="8150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-68400"/>
            <a:ext cx="8150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1360" y="6480"/>
            <a:ext cx="6027840" cy="60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-68400"/>
            <a:ext cx="8150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65320" y="1006560"/>
            <a:ext cx="4994280" cy="5029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39720" y="566640"/>
            <a:ext cx="6657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% (+- 13%) of reads overlapping with known miRNAs (UC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9280" y="219240"/>
            <a:ext cx="8150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600" y="3701880"/>
            <a:ext cx="9131400" cy="2194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2238480"/>
            <a:ext cx="9144000" cy="1654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9680" y="1220760"/>
            <a:ext cx="8402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 value: “a measure of the relative statistical information about the SNP all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from the imputed data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ini, J., &amp; Howie, B. Nature reviews. Genetics, 20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7280" y="184320"/>
            <a:ext cx="8150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t Calling on mRNA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09880" y="106668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llumina Pipe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09880" y="1598760"/>
            <a:ext cx="1770120" cy="40464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ignment B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6960" y="1598760"/>
            <a:ext cx="1770120" cy="40464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ference gen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3760" y="2357280"/>
            <a:ext cx="1770120" cy="4572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 call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M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84920" y="2948040"/>
            <a:ext cx="1769760" cy="55224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 fil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Mtools / cust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79880" y="365112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5960" y="339084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CSC gene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5960" y="389556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bS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79880" y="4203720"/>
            <a:ext cx="1770120" cy="404640"/>
          </a:xfrm>
          <a:prstGeom prst="roundRect">
            <a:avLst>
              <a:gd name="adj" fmla="val 472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81680" y="474012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ndidate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5960" y="4741920"/>
            <a:ext cx="1770120" cy="40464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nkag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040" y="233352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9360" y="1468440"/>
            <a:ext cx="144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50000" y="2835360"/>
            <a:ext cx="144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50000" y="3517920"/>
            <a:ext cx="144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50000" y="4071960"/>
            <a:ext cx="144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50000" y="4608360"/>
            <a:ext cx="1440" cy="12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28880" y="4741920"/>
            <a:ext cx="1770120" cy="40464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heritanc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25" idx="1"/>
            <a:endCxn id="123" idx="3"/>
          </p:cNvCxnSpPr>
          <p:nvPr/>
        </p:nvCxnSpPr>
        <p:spPr>
          <a:xfrm flipH="1" flipV="1">
            <a:off x="6749280" y="3852360"/>
            <a:ext cx="3466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8" idx="1"/>
            <a:endCxn id="127" idx="3"/>
          </p:cNvCxnSpPr>
          <p:nvPr/>
        </p:nvCxnSpPr>
        <p:spPr>
          <a:xfrm flipH="1" flipV="1">
            <a:off x="6751440" y="4941000"/>
            <a:ext cx="344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endCxn id="127" idx="1"/>
          </p:cNvCxnSpPr>
          <p:nvPr/>
        </p:nvCxnSpPr>
        <p:spPr>
          <a:xfrm flipV="1">
            <a:off x="4598640" y="4941000"/>
            <a:ext cx="384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endCxn id="121" idx="0"/>
          </p:cNvCxnSpPr>
          <p:nvPr/>
        </p:nvCxnSpPr>
        <p:spPr>
          <a:xfrm>
            <a:off x="4677840" y="1995120"/>
            <a:ext cx="11818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0" idx="3"/>
            <a:endCxn id="119" idx="1"/>
          </p:cNvCxnSpPr>
          <p:nvPr/>
        </p:nvCxnSpPr>
        <p:spPr>
          <a:xfrm>
            <a:off x="2467080" y="18018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609480" y="2895480"/>
            <a:ext cx="2608560" cy="12956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800"/>
              </a:lnSpc>
              <a:spcBef>
                <a:spcPts val="1001"/>
              </a:spcBef>
              <a:buClr>
                <a:srgbClr val="00589c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001"/>
              </a:spcBef>
              <a:buClr>
                <a:srgbClr val="00589c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ignment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001"/>
              </a:spcBef>
              <a:buClr>
                <a:srgbClr val="00589c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richment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7960" y="339084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fSeq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7960" y="389556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ncRNA,miRNAs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542960" y="2003400"/>
            <a:ext cx="1378080" cy="330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24" idx="1"/>
          </p:cNvCxnSpPr>
          <p:nvPr/>
        </p:nvCxnSpPr>
        <p:spPr>
          <a:xfrm flipH="1">
            <a:off x="6749280" y="3592440"/>
            <a:ext cx="34668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2" idx="3"/>
            <a:endCxn id="123" idx="1"/>
          </p:cNvCxnSpPr>
          <p:nvPr/>
        </p:nvCxnSpPr>
        <p:spPr>
          <a:xfrm>
            <a:off x="4617720" y="3592080"/>
            <a:ext cx="36252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3" idx="3"/>
            <a:endCxn id="123" idx="1"/>
          </p:cNvCxnSpPr>
          <p:nvPr/>
        </p:nvCxnSpPr>
        <p:spPr>
          <a:xfrm flipV="1">
            <a:off x="4617720" y="3852360"/>
            <a:ext cx="36252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7280" y="184320"/>
            <a:ext cx="8150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t Calling on mRNA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73760" y="2357280"/>
            <a:ext cx="1770120" cy="4572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 call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M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84920" y="2948040"/>
            <a:ext cx="1769760" cy="55224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 fil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Mtools / cust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79880" y="365112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5960" y="339084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CSC gene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95960" y="389556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bS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79880" y="4203720"/>
            <a:ext cx="1770120" cy="404640"/>
          </a:xfrm>
          <a:prstGeom prst="roundRect">
            <a:avLst>
              <a:gd name="adj" fmla="val 472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81680" y="474012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ndidate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95960" y="4741920"/>
            <a:ext cx="1770120" cy="40464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nkag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50000" y="2835360"/>
            <a:ext cx="144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50000" y="3517920"/>
            <a:ext cx="144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50000" y="4071960"/>
            <a:ext cx="144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50000" y="4608360"/>
            <a:ext cx="1440" cy="12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28880" y="4741920"/>
            <a:ext cx="1770120" cy="40464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heritanc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3" idx="1"/>
            <a:endCxn id="151" idx="3"/>
          </p:cNvCxnSpPr>
          <p:nvPr/>
        </p:nvCxnSpPr>
        <p:spPr>
          <a:xfrm flipH="1" flipV="1">
            <a:off x="6749280" y="3852360"/>
            <a:ext cx="3466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6" idx="1"/>
            <a:endCxn id="155" idx="3"/>
          </p:cNvCxnSpPr>
          <p:nvPr/>
        </p:nvCxnSpPr>
        <p:spPr>
          <a:xfrm flipH="1" flipV="1">
            <a:off x="6751440" y="4941000"/>
            <a:ext cx="344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endCxn id="155" idx="1"/>
          </p:cNvCxnSpPr>
          <p:nvPr/>
        </p:nvCxnSpPr>
        <p:spPr>
          <a:xfrm flipV="1">
            <a:off x="4598640" y="4941000"/>
            <a:ext cx="384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endCxn id="149" idx="0"/>
          </p:cNvCxnSpPr>
          <p:nvPr/>
        </p:nvCxnSpPr>
        <p:spPr>
          <a:xfrm>
            <a:off x="4677840" y="1995120"/>
            <a:ext cx="11818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847960" y="339084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fSeq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7960" y="3895560"/>
            <a:ext cx="1770120" cy="405000"/>
          </a:xfrm>
          <a:prstGeom prst="roundRect">
            <a:avLst>
              <a:gd name="adj" fmla="val 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ncRNA,miRNAs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52" idx="1"/>
          </p:cNvCxnSpPr>
          <p:nvPr/>
        </p:nvCxnSpPr>
        <p:spPr>
          <a:xfrm flipH="1">
            <a:off x="6749280" y="3592440"/>
            <a:ext cx="34668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6" idx="3"/>
            <a:endCxn id="151" idx="1"/>
          </p:cNvCxnSpPr>
          <p:nvPr/>
        </p:nvCxnSpPr>
        <p:spPr>
          <a:xfrm>
            <a:off x="4617720" y="3592080"/>
            <a:ext cx="36252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7" idx="3"/>
            <a:endCxn id="151" idx="1"/>
          </p:cNvCxnSpPr>
          <p:nvPr/>
        </p:nvCxnSpPr>
        <p:spPr>
          <a:xfrm flipV="1">
            <a:off x="4617720" y="3852360"/>
            <a:ext cx="36252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2209680" y="1006560"/>
            <a:ext cx="2468520" cy="1006560"/>
          </a:xfrm>
          <a:prstGeom prst="roundRect">
            <a:avLst>
              <a:gd name="adj" fmla="val 472"/>
            </a:avLst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e-aligned mRNA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0:45:32Z</dcterms:created>
  <dc:creator>koller</dc:creator>
  <dc:description/>
  <dc:language>en-US</dc:language>
  <cp:lastModifiedBy>heuvel</cp:lastModifiedBy>
  <dcterms:modified xsi:type="dcterms:W3CDTF">2008-01-09T15:53:03Z</dcterms:modified>
  <cp:revision>23</cp:revision>
  <dc:subject/>
  <dc:title>Folie 1</dc:title>
</cp:coreProperties>
</file>